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wmf" ContentType="image/x-wmf"/>
  <Override PartName="/ppt/media/image20.jpeg" ContentType="image/jpeg"/>
  <Override PartName="/ppt/media/image19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34.jpeg" ContentType="image/jpeg"/>
  <Override PartName="/ppt/media/image40.wmf" ContentType="image/x-wmf"/>
  <Override PartName="/ppt/media/image7.jpeg" ContentType="image/jpeg"/>
  <Override PartName="/ppt/media/image38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9.jpeg" ContentType="image/jpeg"/>
  <Override PartName="/ppt/media/image48.png" ContentType="image/png"/>
  <Override PartName="/ppt/media/image12.jpeg" ContentType="image/jpeg"/>
  <Override PartName="/ppt/media/image4.png" ContentType="image/png"/>
  <Override PartName="/ppt/media/image47.wmf" ContentType="image/x-wmf"/>
  <Override PartName="/ppt/media/image31.jpeg" ContentType="image/jpeg"/>
  <Override PartName="/ppt/media/image45.wmf" ContentType="image/x-wmf"/>
  <Override PartName="/ppt/media/image43.wmf" ContentType="image/x-wmf"/>
  <Override PartName="/ppt/media/image13.jpeg" ContentType="image/jpeg"/>
  <Override PartName="/ppt/media/image44.wmf" ContentType="image/x-wmf"/>
  <Override PartName="/ppt/media/image4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6.jpeg" ContentType="image/jpeg"/>
  <Override PartName="/ppt/media/image27.png" ContentType="image/png"/>
  <Override PartName="/ppt/media/image33.jpeg" ContentType="image/jpeg"/>
  <Override PartName="/ppt/media/image30.wmf" ContentType="image/x-wmf"/>
  <Override PartName="/ppt/media/image37.jpeg" ContentType="image/jpeg"/>
  <Override PartName="/ppt/media/image28.wmf" ContentType="image/x-wmf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7008813" cy="9294813"/>
  <p:custShowLst>
    <p:custShow name="Resources" id="0">
      <p:sldLst>
        <p:sld r:id="rId23"/>
        <p:sld r:id="rId30"/>
      </p:sldLst>
    </p:custShow>
    <p:custShow name="5-Minute Check" id="1">
      <p:sldLst>
        <p:sld r:id="rId24"/>
        <p:sld r:id="rId25"/>
        <p:sld r:id="rId26"/>
        <p:sld r:id="rId27"/>
        <p:sld r:id="rId28"/>
        <p:sld r:id="rId29"/>
        <p:sld r:id="rId3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3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" Target="slide2.xml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" Target="slide25.xml"/><Relationship Id="rId5" Type="http://schemas.openxmlformats.org/officeDocument/2006/relationships/image" Target="../media/image10.jpeg"/><Relationship Id="rId6" Type="http://schemas.openxmlformats.org/officeDocument/2006/relationships/image" Target="../media/image5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4.png"/><Relationship Id="rId6" Type="http://schemas.openxmlformats.org/officeDocument/2006/relationships/image" Target="../media/image10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P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LMart" descr=""/>
          <p:cNvPicPr/>
          <p:nvPr/>
        </p:nvPicPr>
        <p:blipFill>
          <a:blip r:embed="rId3"/>
          <a:stretch/>
        </p:blipFill>
        <p:spPr>
          <a:xfrm>
            <a:off x="1117440" y="841320"/>
            <a:ext cx="2349720" cy="5112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105760" y="6465960"/>
            <a:ext cx="461880" cy="369720"/>
          </a:xfrm>
          <a:prstGeom prst="rect">
            <a:avLst/>
          </a:prstGeom>
          <a:ln w="0">
            <a:noFill/>
          </a:ln>
        </p:spPr>
      </p:pic>
      <p:pic>
        <p:nvPicPr>
          <p:cNvPr id="4" name="AP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33240"/>
          </a:xfrm>
          <a:prstGeom prst="rect">
            <a:avLst/>
          </a:prstGeom>
          <a:ln w="0">
            <a:noFill/>
          </a:ln>
        </p:spPr>
      </p:pic>
      <p:pic>
        <p:nvPicPr>
          <p:cNvPr id="5" name="exit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6593040" y="6491160"/>
            <a:ext cx="430200" cy="344520"/>
          </a:xfrm>
          <a:prstGeom prst="rect">
            <a:avLst/>
          </a:prstGeom>
          <a:ln w="0">
            <a:noFill/>
          </a:ln>
        </p:spPr>
      </p:pic>
      <p:pic>
        <p:nvPicPr>
          <p:cNvPr id="6" name="online" descr=""/>
          <p:cNvPicPr/>
          <p:nvPr/>
        </p:nvPicPr>
        <p:blipFill>
          <a:blip r:embed="rId7"/>
          <a:stretch/>
        </p:blipFill>
        <p:spPr>
          <a:xfrm>
            <a:off x="7135920" y="6504120"/>
            <a:ext cx="609480" cy="334800"/>
          </a:xfrm>
          <a:prstGeom prst="rect">
            <a:avLst/>
          </a:prstGeom>
          <a:ln w="0">
            <a:noFill/>
          </a:ln>
        </p:spPr>
      </p:pic>
      <p:pic>
        <p:nvPicPr>
          <p:cNvPr id="7" name="resource" descr=""/>
          <p:cNvPicPr/>
          <p:nvPr/>
        </p:nvPicPr>
        <p:blipFill>
          <a:blip r:embed="rId8"/>
          <a:stretch/>
        </p:blipFill>
        <p:spPr>
          <a:xfrm>
            <a:off x="7783560" y="6465960"/>
            <a:ext cx="914400" cy="3650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P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AP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33240"/>
          </a:xfrm>
          <a:prstGeom prst="rect">
            <a:avLst/>
          </a:prstGeom>
          <a:ln w="0">
            <a:noFill/>
          </a:ln>
        </p:spPr>
      </p:pic>
      <p:pic>
        <p:nvPicPr>
          <p:cNvPr id="48" name="exit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5124600" y="6491160"/>
            <a:ext cx="430200" cy="344520"/>
          </a:xfrm>
          <a:prstGeom prst="rect">
            <a:avLst/>
          </a:prstGeom>
          <a:ln w="0">
            <a:noFill/>
          </a:ln>
        </p:spPr>
      </p:pic>
      <p:pic>
        <p:nvPicPr>
          <p:cNvPr id="49" name="online" descr=""/>
          <p:cNvPicPr/>
          <p:nvPr/>
        </p:nvPicPr>
        <p:blipFill>
          <a:blip r:embed="rId5"/>
          <a:stretch/>
        </p:blipFill>
        <p:spPr>
          <a:xfrm>
            <a:off x="5667480" y="6504120"/>
            <a:ext cx="609480" cy="334800"/>
          </a:xfrm>
          <a:prstGeom prst="rect">
            <a:avLst/>
          </a:prstGeom>
          <a:ln w="0">
            <a:noFill/>
          </a:ln>
        </p:spPr>
      </p:pic>
      <p:pic>
        <p:nvPicPr>
          <p:cNvPr id="50" name="resource" descr=""/>
          <p:cNvPicPr/>
          <p:nvPr/>
        </p:nvPicPr>
        <p:blipFill>
          <a:blip r:embed="rId6"/>
          <a:stretch/>
        </p:blipFill>
        <p:spPr>
          <a:xfrm>
            <a:off x="6315120" y="6465960"/>
            <a:ext cx="914400" cy="365040"/>
          </a:xfrm>
          <a:prstGeom prst="rect">
            <a:avLst/>
          </a:prstGeom>
          <a:ln w="0">
            <a:noFill/>
          </a:ln>
        </p:spPr>
      </p:pic>
      <p:pic>
        <p:nvPicPr>
          <p:cNvPr id="51" name="Home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238880" y="6465960"/>
            <a:ext cx="462240" cy="369720"/>
          </a:xfrm>
          <a:prstGeom prst="rect">
            <a:avLst/>
          </a:prstGeom>
          <a:ln w="0">
            <a:noFill/>
          </a:ln>
        </p:spPr>
      </p:pic>
      <p:pic>
        <p:nvPicPr>
          <p:cNvPr id="52" name="go_back" descr="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7709040" y="6465960"/>
            <a:ext cx="461880" cy="369720"/>
          </a:xfrm>
          <a:prstGeom prst="rect">
            <a:avLst/>
          </a:prstGeom>
          <a:ln w="0">
            <a:noFill/>
          </a:ln>
        </p:spPr>
      </p:pic>
      <p:pic>
        <p:nvPicPr>
          <p:cNvPr id="53" name="go_next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8180280" y="6465960"/>
            <a:ext cx="462240" cy="368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P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AP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33240"/>
          </a:xfrm>
          <a:prstGeom prst="rect">
            <a:avLst/>
          </a:prstGeom>
          <a:ln w="0">
            <a:noFill/>
          </a:ln>
        </p:spPr>
      </p:pic>
      <p:pic>
        <p:nvPicPr>
          <p:cNvPr id="94" name="double_back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80280" y="6465960"/>
            <a:ext cx="462240" cy="368280"/>
          </a:xfrm>
          <a:prstGeom prst="rect">
            <a:avLst/>
          </a:prstGeom>
          <a:ln w="0">
            <a:noFill/>
          </a:ln>
        </p:spPr>
      </p:pic>
      <p:pic>
        <p:nvPicPr>
          <p:cNvPr id="95" name="online" descr=""/>
          <p:cNvPicPr/>
          <p:nvPr/>
        </p:nvPicPr>
        <p:blipFill>
          <a:blip r:embed="rId6"/>
          <a:stretch/>
        </p:blipFill>
        <p:spPr>
          <a:xfrm>
            <a:off x="7458120" y="6485040"/>
            <a:ext cx="609480" cy="334800"/>
          </a:xfrm>
          <a:prstGeom prst="rect">
            <a:avLst/>
          </a:prstGeom>
          <a:ln w="0">
            <a:noFill/>
          </a:ln>
        </p:spPr>
      </p:pic>
      <p:pic>
        <p:nvPicPr>
          <p:cNvPr id="96" name="resource_menu_icon" descr=""/>
          <p:cNvPicPr/>
          <p:nvPr/>
        </p:nvPicPr>
        <p:blipFill>
          <a:blip r:embed="rId7"/>
          <a:stretch/>
        </p:blipFill>
        <p:spPr>
          <a:xfrm>
            <a:off x="1219320" y="609480"/>
            <a:ext cx="4419360" cy="546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AP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5mincheck_art" descr=""/>
          <p:cNvPicPr/>
          <p:nvPr/>
        </p:nvPicPr>
        <p:blipFill>
          <a:blip r:embed="rId3"/>
          <a:srcRect l="0" t="5830" r="0" b="0"/>
          <a:stretch/>
        </p:blipFill>
        <p:spPr>
          <a:xfrm>
            <a:off x="552600" y="665280"/>
            <a:ext cx="3657600" cy="563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7359480" y="5802480"/>
            <a:ext cx="1346400" cy="414000"/>
          </a:xfrm>
          <a:prstGeom prst="rect">
            <a:avLst/>
          </a:prstGeom>
          <a:ln w="0">
            <a:noFill/>
          </a:ln>
        </p:spPr>
      </p:pic>
      <p:pic>
        <p:nvPicPr>
          <p:cNvPr id="138" name="AP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33240"/>
          </a:xfrm>
          <a:prstGeom prst="rect">
            <a:avLst/>
          </a:prstGeom>
          <a:ln w="0">
            <a:noFill/>
          </a:ln>
        </p:spPr>
      </p:pic>
      <p:pic>
        <p:nvPicPr>
          <p:cNvPr id="139" name="double_back" descr=""/>
          <p:cNvPicPr/>
          <p:nvPr/>
        </p:nvPicPr>
        <p:blipFill>
          <a:blip r:embed="rId6"/>
          <a:stretch/>
        </p:blipFill>
        <p:spPr>
          <a:xfrm>
            <a:off x="7238880" y="6465960"/>
            <a:ext cx="462240" cy="368280"/>
          </a:xfrm>
          <a:prstGeom prst="rect">
            <a:avLst/>
          </a:prstGeom>
          <a:ln w="0">
            <a:noFill/>
          </a:ln>
        </p:spPr>
      </p:pic>
      <p:pic>
        <p:nvPicPr>
          <p:cNvPr id="140" name="go_back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709040" y="6465960"/>
            <a:ext cx="461880" cy="369720"/>
          </a:xfrm>
          <a:prstGeom prst="rect">
            <a:avLst/>
          </a:prstGeom>
          <a:ln w="0">
            <a:noFill/>
          </a:ln>
        </p:spPr>
      </p:pic>
      <p:pic>
        <p:nvPicPr>
          <p:cNvPr id="141" name="go_next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180280" y="6465960"/>
            <a:ext cx="462240" cy="3682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2.jpeg"/><Relationship Id="rId4" Type="http://schemas.openxmlformats.org/officeDocument/2006/relationships/image" Target="../media/image26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22.jpeg"/><Relationship Id="rId4" Type="http://schemas.openxmlformats.org/officeDocument/2006/relationships/image" Target="../media/image13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hyperlink" Target="file:///09Math_G6_Image%20Bank.ppt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7.jpeg"/><Relationship Id="rId9" Type="http://schemas.openxmlformats.org/officeDocument/2006/relationships/hyperlink" Target="file:///M1_05/M1_05_dev_100.exe" TargetMode="External"/><Relationship Id="rId10" Type="http://schemas.openxmlformats.org/officeDocument/2006/relationships/hyperlink" Target="file:///MAC1CIM3_5.swf" TargetMode="External"/><Relationship Id="rId11" Type="http://schemas.openxmlformats.org/officeDocument/2006/relationships/image" Target="../media/image39.jpeg"/><Relationship Id="rId1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18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image" Target="../media/image49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image" Target="../media/image13.jpeg"/><Relationship Id="rId5" Type="http://schemas.openxmlformats.org/officeDocument/2006/relationships/image" Target="../media/image19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19.jpeg"/><Relationship Id="rId4" Type="http://schemas.openxmlformats.org/officeDocument/2006/relationships/image" Target="../media/image22.jpeg"/><Relationship Id="rId5" Type="http://schemas.openxmlformats.org/officeDocument/2006/relationships/image" Target="../media/image13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ash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493640"/>
            <a:ext cx="4724280" cy="30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Sid feeds a vitamin-water solution to his guinea pigs. The table shows the amount of solution the guinea pigs drank over a period of four days this week. Which is the closest to the total amount of solution the guinea pigs dran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PAnswers"/>
          <p:cNvSpPr/>
          <p:nvPr/>
        </p:nvSpPr>
        <p:spPr>
          <a:xfrm>
            <a:off x="866880" y="4856040"/>
            <a:ext cx="62960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marL="106560" indent="-106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539d"/>
              </a:buClr>
              <a:buFont typeface="Arial"/>
              <a:buAutoNum type="alphaU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oun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560" indent="-106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539d"/>
              </a:buClr>
              <a:buFont typeface="Arial"/>
              <a:buAutoNum type="alphaU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560" indent="-106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539d"/>
              </a:buClr>
              <a:buFont typeface="Arial"/>
              <a:buAutoNum type="alphaU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560" indent="-106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539d"/>
              </a:buClr>
              <a:buFont typeface="Arial"/>
              <a:buAutoNum type="alphaU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657600" cy="28130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525840" y="800280"/>
            <a:ext cx="538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Use 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380880" y="552600"/>
            <a:ext cx="3353040" cy="834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PAnswers"/>
          <p:cNvSpPr/>
          <p:nvPr/>
        </p:nvSpPr>
        <p:spPr>
          <a:xfrm>
            <a:off x="866880" y="1494000"/>
            <a:ext cx="41623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Read the It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ddends are clustered around 20. Round each decimal to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809640" y="3776760"/>
            <a:ext cx="312408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61880"/>
                <a:tab algn="l" pos="1376280"/>
                <a:tab algn="l" pos="1941480"/>
                <a:tab algn="l" pos="216864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.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61880"/>
                <a:tab algn="l" pos="1376280"/>
                <a:tab algn="l" pos="1941480"/>
                <a:tab algn="l" pos="216864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61880"/>
                <a:tab algn="l" pos="1376280"/>
                <a:tab algn="l" pos="1941480"/>
                <a:tab algn="l" pos="216864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61880"/>
                <a:tab algn="l" pos="1376280"/>
                <a:tab algn="l" pos="1941480"/>
                <a:tab algn="l" pos="216864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+ 22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61880"/>
                <a:tab algn="l" pos="1376280"/>
                <a:tab algn="l" pos="1941480"/>
                <a:tab algn="l" pos="216864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657600" cy="28130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525840" y="800280"/>
            <a:ext cx="538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Use 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380880" y="552600"/>
            <a:ext cx="3353040" cy="834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57" name="TPAnswers"/>
          <p:cNvSpPr/>
          <p:nvPr/>
        </p:nvSpPr>
        <p:spPr>
          <a:xfrm>
            <a:off x="866880" y="1494000"/>
            <a:ext cx="41623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Solve the It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tion is repeated addition. So, a good estimate is 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20, or 8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66880" y="4114800"/>
            <a:ext cx="4647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6280" indent="-1376280">
              <a:lnSpc>
                <a:spcPct val="9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657600" cy="28130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525840" y="800280"/>
            <a:ext cx="538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Use 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380880" y="552600"/>
            <a:ext cx="3353040" cy="834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7162560" y="4495680"/>
            <a:ext cx="14475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TPChart"/>
          <p:cNvGraphicFramePr/>
          <p:nvPr/>
        </p:nvGraphicFramePr>
        <p:xfrm>
          <a:off x="5715000" y="3429000"/>
          <a:ext cx="2133720" cy="25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429000"/>
                    <a:ext cx="213372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5840" y="4981680"/>
            <a:ext cx="405000" cy="40464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e01b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PQuestion"/>
          <p:cNvSpPr/>
          <p:nvPr/>
        </p:nvSpPr>
        <p:spPr>
          <a:xfrm>
            <a:off x="533520" y="1484280"/>
            <a:ext cx="8229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During the month of February, Jonathon spent $14.78 on gasoline the first week, $15.35 on gasoline during the second week, $15.24 on gasoline during the third week, and $14.97 on gasoline during the fourth week. Which is the closest to the total amount Jonathon spent on gasoline during Febru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343080" y="711360"/>
            <a:ext cx="4038480" cy="6267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70" name="TPAnswers"/>
          <p:cNvSpPr/>
          <p:nvPr/>
        </p:nvSpPr>
        <p:spPr>
          <a:xfrm>
            <a:off x="876240" y="4038480"/>
            <a:ext cx="7696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8000"/>
          </a:bodyPr>
          <a:p>
            <a:pPr marL="95760" indent="-95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3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5"/>
          <a:stretch/>
        </p:blipFill>
        <p:spPr>
          <a:xfrm>
            <a:off x="7359480" y="5802480"/>
            <a:ext cx="1346400" cy="41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494000"/>
            <a:ext cx="845820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Estimate 14.8 + 55.9 using front-end esti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6680" y="704880"/>
            <a:ext cx="503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Use Front-End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PAnswers"/>
          <p:cNvSpPr/>
          <p:nvPr/>
        </p:nvSpPr>
        <p:spPr>
          <a:xfrm>
            <a:off x="866880" y="2076480"/>
            <a:ext cx="74390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890640" y="2295360"/>
            <a:ext cx="7105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7000" indent="-119700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22716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8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787480" y="3179880"/>
            <a:ext cx="1022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4360" indent="-131436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90640" y="2719440"/>
            <a:ext cx="7719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7000" indent="-119700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227160"/>
                <a:tab algn="l" pos="188604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5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e01b22"/>
                </a:solidFill>
                <a:uFillTx/>
                <a:latin typeface="Arial"/>
              </a:rPr>
              <a:t>5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0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front dig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3520" y="4038480"/>
            <a:ext cx="822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Using front-end estimation, 14.8 + 55.9 is about 60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12920" y="701640"/>
            <a:ext cx="2133360" cy="549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7162560" y="4495680"/>
            <a:ext cx="14475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TPChart"/>
          <p:cNvGraphicFramePr/>
          <p:nvPr/>
        </p:nvGraphicFramePr>
        <p:xfrm>
          <a:off x="5715000" y="2438280"/>
          <a:ext cx="3130560" cy="35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438280"/>
                    <a:ext cx="313056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06480" y="2209680"/>
            <a:ext cx="404640" cy="4050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e01b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PQuestion"/>
          <p:cNvSpPr/>
          <p:nvPr/>
        </p:nvSpPr>
        <p:spPr>
          <a:xfrm>
            <a:off x="533520" y="1484280"/>
            <a:ext cx="8229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Estimate 32.7 + 65.1 using front-end esti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343080" y="711360"/>
            <a:ext cx="4038480" cy="6267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7359480" y="5802480"/>
            <a:ext cx="1346400" cy="414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5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91" name="TPAnswers"/>
          <p:cNvSpPr/>
          <p:nvPr/>
        </p:nvSpPr>
        <p:spPr>
          <a:xfrm>
            <a:off x="866880" y="2200320"/>
            <a:ext cx="37051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2000"/>
          </a:bodyPr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.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.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0.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49440" y="1246320"/>
            <a:ext cx="8001000" cy="4329000"/>
            <a:chOff x="649440" y="1246320"/>
            <a:chExt cx="8001000" cy="4329000"/>
          </a:xfrm>
        </p:grpSpPr>
        <p:pic>
          <p:nvPicPr>
            <p:cNvPr id="294" name="" descr=""/>
            <p:cNvPicPr/>
            <p:nvPr/>
          </p:nvPicPr>
          <p:blipFill>
            <a:blip r:embed="rId1"/>
            <a:stretch/>
          </p:blipFill>
          <p:spPr>
            <a:xfrm>
              <a:off x="649440" y="1246320"/>
              <a:ext cx="8001000" cy="39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2"/>
            <a:srcRect l="0" t="28592" r="0" b="0"/>
            <a:stretch/>
          </p:blipFill>
          <p:spPr>
            <a:xfrm>
              <a:off x="649440" y="2755800"/>
              <a:ext cx="800100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975040" y="1319040"/>
              <a:ext cx="547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stimation Metho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2895480" y="1874880"/>
            <a:ext cx="556272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by rounding each decimal to the nearest whole number that is easy for you to add or subtract ment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by rounding a group of close addends to the same number before ad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by adding or subtracting the values of the digits in the front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48800" y="1874520"/>
            <a:ext cx="199404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Rounding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Clustering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Front-End</a:t>
            </a:r>
            <a:br>
              <a:rPr sz="2400"/>
            </a:b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62120" y="1828800"/>
            <a:ext cx="7619760" cy="3505320"/>
            <a:chOff x="762120" y="1828800"/>
            <a:chExt cx="7619760" cy="3505320"/>
          </a:xfrm>
        </p:grpSpPr>
        <p:sp>
          <p:nvSpPr>
            <p:cNvPr id="300" name=""/>
            <p:cNvSpPr/>
            <p:nvPr/>
          </p:nvSpPr>
          <p:spPr>
            <a:xfrm>
              <a:off x="2666880" y="1828800"/>
              <a:ext cx="0" cy="3505320"/>
            </a:xfrm>
            <a:prstGeom prst="line">
              <a:avLst/>
            </a:prstGeom>
            <a:ln w="19080">
              <a:solidFill>
                <a:srgbClr val="0053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2120" y="3005280"/>
              <a:ext cx="7619760" cy="0"/>
            </a:xfrm>
            <a:prstGeom prst="line">
              <a:avLst/>
            </a:prstGeom>
            <a:ln w="19080">
              <a:solidFill>
                <a:srgbClr val="0053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2120" y="4224240"/>
              <a:ext cx="7619760" cy="0"/>
            </a:xfrm>
            <a:prstGeom prst="line">
              <a:avLst/>
            </a:prstGeom>
            <a:ln w="19080">
              <a:solidFill>
                <a:srgbClr val="0053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553920" y="10666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of the Le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end_of_scre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the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AP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3240"/>
          </a:xfrm>
          <a:prstGeom prst="rect">
            <a:avLst/>
          </a:prstGeom>
          <a:ln w="0">
            <a:noFill/>
          </a:ln>
        </p:spPr>
      </p:pic>
      <p:pic>
        <p:nvPicPr>
          <p:cNvPr id="307" name="exit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5124600" y="6491160"/>
            <a:ext cx="430200" cy="344520"/>
          </a:xfrm>
          <a:prstGeom prst="rect">
            <a:avLst/>
          </a:prstGeom>
          <a:ln w="0">
            <a:noFill/>
          </a:ln>
        </p:spPr>
      </p:pic>
      <p:pic>
        <p:nvPicPr>
          <p:cNvPr id="308" name="online" descr=""/>
          <p:cNvPicPr/>
          <p:nvPr/>
        </p:nvPicPr>
        <p:blipFill>
          <a:blip r:embed="rId4"/>
          <a:stretch/>
        </p:blipFill>
        <p:spPr>
          <a:xfrm>
            <a:off x="5667480" y="6504120"/>
            <a:ext cx="609480" cy="334800"/>
          </a:xfrm>
          <a:prstGeom prst="rect">
            <a:avLst/>
          </a:prstGeom>
          <a:ln w="0">
            <a:noFill/>
          </a:ln>
        </p:spPr>
      </p:pic>
      <p:pic>
        <p:nvPicPr>
          <p:cNvPr id="309" name="resource" descr=""/>
          <p:cNvPicPr/>
          <p:nvPr/>
        </p:nvPicPr>
        <p:blipFill>
          <a:blip r:embed="rId5"/>
          <a:stretch/>
        </p:blipFill>
        <p:spPr>
          <a:xfrm>
            <a:off x="6315120" y="6465960"/>
            <a:ext cx="914400" cy="365040"/>
          </a:xfrm>
          <a:prstGeom prst="rect">
            <a:avLst/>
          </a:prstGeom>
          <a:ln w="0">
            <a:noFill/>
          </a:ln>
        </p:spPr>
      </p:pic>
      <p:pic>
        <p:nvPicPr>
          <p:cNvPr id="310" name="Home" descr=""/>
          <p:cNvPicPr/>
          <p:nvPr/>
        </p:nvPicPr>
        <p:blipFill>
          <a:blip r:embed="rId6"/>
          <a:stretch/>
        </p:blipFill>
        <p:spPr>
          <a:xfrm>
            <a:off x="7238880" y="6465960"/>
            <a:ext cx="462240" cy="369720"/>
          </a:xfrm>
          <a:prstGeom prst="rect">
            <a:avLst/>
          </a:prstGeom>
          <a:ln w="0">
            <a:noFill/>
          </a:ln>
        </p:spPr>
      </p:pic>
      <p:pic>
        <p:nvPicPr>
          <p:cNvPr id="311" name="go_back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709040" y="6465960"/>
            <a:ext cx="461880" cy="369720"/>
          </a:xfrm>
          <a:prstGeom prst="rect">
            <a:avLst/>
          </a:prstGeom>
          <a:ln w="0">
            <a:noFill/>
          </a:ln>
        </p:spPr>
      </p:pic>
      <p:pic>
        <p:nvPicPr>
          <p:cNvPr id="312" name="go_next" descr=""/>
          <p:cNvPicPr/>
          <p:nvPr/>
        </p:nvPicPr>
        <p:blipFill>
          <a:blip r:embed="rId8"/>
          <a:stretch/>
        </p:blipFill>
        <p:spPr>
          <a:xfrm>
            <a:off x="8180280" y="6465960"/>
            <a:ext cx="462240" cy="368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04560" y="1422360"/>
            <a:ext cx="526176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01b18"/>
                </a:solidFill>
                <a:uFillTx/>
                <a:latin typeface="Arial"/>
                <a:hlinkClick r:id="rId1" action="ppaction://hlinksldjump"/>
              </a:rPr>
              <a:t>Five-Minute Check (over Lesson 3–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01b18"/>
                </a:solidFill>
                <a:uFillTx/>
                <a:latin typeface="Arial"/>
                <a:hlinkClick r:id="rId2"/>
              </a:rPr>
              <a:t>Image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1476360" y="1378080"/>
            <a:ext cx="1432080" cy="4413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2108160" y="2610000"/>
            <a:ext cx="803160" cy="4982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5"/>
          <a:stretch/>
        </p:blipFill>
        <p:spPr>
          <a:xfrm>
            <a:off x="2108160" y="2000160"/>
            <a:ext cx="803160" cy="4827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6"/>
          <a:stretch/>
        </p:blipFill>
        <p:spPr>
          <a:xfrm>
            <a:off x="1057320" y="4229280"/>
            <a:ext cx="1892160" cy="5047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838080" y="3772080"/>
            <a:ext cx="7467840" cy="2485800"/>
          </a:xfrm>
          <a:prstGeom prst="rect">
            <a:avLst/>
          </a:prstGeom>
          <a:noFill/>
          <a:ln w="25560">
            <a:solidFill>
              <a:srgbClr val="005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7"/>
          <a:stretch/>
        </p:blipFill>
        <p:spPr>
          <a:xfrm>
            <a:off x="1068480" y="3429000"/>
            <a:ext cx="1884240" cy="6937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009960" y="428616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ing Dec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8"/>
          <a:stretch/>
        </p:blipFill>
        <p:spPr>
          <a:xfrm>
            <a:off x="1057320" y="4915080"/>
            <a:ext cx="1892160" cy="5047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3009960" y="4971960"/>
            <a:ext cx="51814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9"/>
              </a:rPr>
              <a:t>Dividing Dec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10"/>
              </a:rPr>
              <a:t>Modeling Dec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1"/>
          <a:stretch/>
        </p:blipFill>
        <p:spPr>
          <a:xfrm>
            <a:off x="1298520" y="5557680"/>
            <a:ext cx="1650960" cy="395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7162560" y="4495680"/>
            <a:ext cx="14475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TPChart"/>
          <p:cNvGraphicFramePr/>
          <p:nvPr/>
        </p:nvGraphicFramePr>
        <p:xfrm>
          <a:off x="5715000" y="2438280"/>
          <a:ext cx="3130560" cy="35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438280"/>
                    <a:ext cx="313056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Minute Check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44640" y="2228760"/>
            <a:ext cx="404640" cy="4050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e01b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PQuestion"/>
          <p:cNvSpPr/>
          <p:nvPr/>
        </p:nvSpPr>
        <p:spPr>
          <a:xfrm>
            <a:off x="533520" y="1484280"/>
            <a:ext cx="8229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Round 8.4302 to the nearest te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TPAnswers"/>
          <p:cNvSpPr/>
          <p:nvPr/>
        </p:nvSpPr>
        <p:spPr>
          <a:xfrm>
            <a:off x="914400" y="2211480"/>
            <a:ext cx="76960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2000"/>
          </a:bodyPr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43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44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044960" y="752400"/>
            <a:ext cx="2355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(over Lesson 3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dead_back" descr=""/>
          <p:cNvPicPr/>
          <p:nvPr/>
        </p:nvPicPr>
        <p:blipFill>
          <a:blip r:embed="rId4"/>
          <a:stretch/>
        </p:blipFill>
        <p:spPr>
          <a:xfrm>
            <a:off x="7709040" y="6465960"/>
            <a:ext cx="46188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essonmenutext"/>
          <p:cNvSpPr/>
          <p:nvPr/>
        </p:nvSpPr>
        <p:spPr>
          <a:xfrm>
            <a:off x="1066680" y="1494000"/>
            <a:ext cx="7583760" cy="37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01b18"/>
                </a:solidFill>
                <a:uFillTx/>
                <a:latin typeface="Arial"/>
                <a:hlinkClick r:id="rId1" action="ppaction://hlinksldjump"/>
              </a:rPr>
              <a:t>Five-Minute Check (over Lesson 3–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01b18"/>
                </a:solidFill>
                <a:uFillTx/>
                <a:latin typeface="Arial"/>
                <a:hlinkClick r:id="rId2" action="ppaction://hlinksldjump"/>
              </a:rPr>
              <a:t>Main Idea and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01b18"/>
                </a:solidFill>
                <a:uFillTx/>
                <a:latin typeface="Arial"/>
                <a:hlinkClick r:id="rId3" action="ppaction://hlinksldjump"/>
              </a:rPr>
              <a:t>Example 1:	Use Estimation to Solv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01b18"/>
                </a:solidFill>
                <a:uFillTx/>
                <a:latin typeface="Arial"/>
                <a:hlinkClick r:id="rId4" action="ppaction://hlinksldjump"/>
              </a:rPr>
              <a:t>Example 2:	Use Estimation to Solv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01b18"/>
                </a:solidFill>
                <a:uFillTx/>
                <a:latin typeface="Arial"/>
                <a:hlinkClick r:id="rId5" action="ppaction://hlinksldjump"/>
              </a:rPr>
              <a:t>Example 3:	Use 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01b18"/>
                </a:solidFill>
                <a:uFillTx/>
                <a:latin typeface="Arial"/>
                <a:hlinkClick r:id="rId6" action="ppaction://hlinksldjump"/>
              </a:rPr>
              <a:t>Example 4:	Use Front-End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01b18"/>
                </a:solidFill>
                <a:uFillTx/>
                <a:latin typeface="Arial"/>
                <a:hlinkClick r:id="rId7" action="ppaction://hlinksldjump"/>
              </a:rPr>
              <a:t>Concept Summary:  Estima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7162560" y="4495680"/>
            <a:ext cx="14475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TPChart"/>
          <p:cNvGraphicFramePr/>
          <p:nvPr/>
        </p:nvGraphicFramePr>
        <p:xfrm>
          <a:off x="5715000" y="2438280"/>
          <a:ext cx="3130560" cy="35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438280"/>
                    <a:ext cx="313056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Minute Chec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5080" y="4043520"/>
            <a:ext cx="405000" cy="40464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e01b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PQuestion"/>
          <p:cNvSpPr/>
          <p:nvPr/>
        </p:nvSpPr>
        <p:spPr>
          <a:xfrm>
            <a:off x="533520" y="1484280"/>
            <a:ext cx="8229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Round 9.6452 to the nearest thousan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42" name="TPAnswers"/>
          <p:cNvSpPr/>
          <p:nvPr/>
        </p:nvSpPr>
        <p:spPr>
          <a:xfrm>
            <a:off x="838080" y="2517840"/>
            <a:ext cx="76964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2000"/>
          </a:bodyPr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6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646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64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44960" y="752400"/>
            <a:ext cx="2355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(over Lesson 3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5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7162560" y="4495680"/>
            <a:ext cx="14475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TPChart"/>
          <p:cNvGraphicFramePr/>
          <p:nvPr/>
        </p:nvGraphicFramePr>
        <p:xfrm>
          <a:off x="5715000" y="2438280"/>
          <a:ext cx="3130560" cy="35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438280"/>
                    <a:ext cx="313056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Minute Check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65080" y="3276720"/>
            <a:ext cx="405000" cy="40464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e01b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PQuestion"/>
          <p:cNvSpPr/>
          <p:nvPr/>
        </p:nvSpPr>
        <p:spPr>
          <a:xfrm>
            <a:off x="533520" y="1484280"/>
            <a:ext cx="8229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Round 1.257 to the nearest hundre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51" name="TPAnswers"/>
          <p:cNvSpPr/>
          <p:nvPr/>
        </p:nvSpPr>
        <p:spPr>
          <a:xfrm>
            <a:off x="838080" y="2517840"/>
            <a:ext cx="76964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2000"/>
          </a:bodyPr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3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6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044960" y="752400"/>
            <a:ext cx="2355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(over Lesson 3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7162560" y="4495680"/>
            <a:ext cx="14475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TPChart"/>
          <p:cNvGraphicFramePr/>
          <p:nvPr/>
        </p:nvGraphicFramePr>
        <p:xfrm>
          <a:off x="5715000" y="2438280"/>
          <a:ext cx="3130560" cy="35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438280"/>
                    <a:ext cx="313056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Minute Check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41400" y="4786200"/>
            <a:ext cx="404640" cy="4050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e01b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PQuestion"/>
          <p:cNvSpPr/>
          <p:nvPr/>
        </p:nvSpPr>
        <p:spPr>
          <a:xfrm>
            <a:off x="533520" y="1484280"/>
            <a:ext cx="8229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Round 8.186172 to the nearest ten-thousan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0" name="TPAnswers"/>
          <p:cNvSpPr/>
          <p:nvPr/>
        </p:nvSpPr>
        <p:spPr>
          <a:xfrm>
            <a:off x="914400" y="2517840"/>
            <a:ext cx="76960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2000"/>
          </a:bodyPr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1861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18617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18618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18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044960" y="752400"/>
            <a:ext cx="2355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(over Lesson 3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5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5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7162560" y="4495680"/>
            <a:ext cx="14475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TPChart"/>
          <p:cNvGraphicFramePr/>
          <p:nvPr/>
        </p:nvGraphicFramePr>
        <p:xfrm>
          <a:off x="5715000" y="2438280"/>
          <a:ext cx="3130560" cy="35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438280"/>
                    <a:ext cx="313056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Minute Check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32040" y="4019400"/>
            <a:ext cx="404640" cy="4050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e01b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PQuestion"/>
          <p:cNvSpPr/>
          <p:nvPr/>
        </p:nvSpPr>
        <p:spPr>
          <a:xfrm>
            <a:off x="533520" y="1484280"/>
            <a:ext cx="8229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Round 8.239 to the nearest hundre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9" name="TPAnswers"/>
          <p:cNvSpPr/>
          <p:nvPr/>
        </p:nvSpPr>
        <p:spPr>
          <a:xfrm>
            <a:off x="914400" y="2517840"/>
            <a:ext cx="76960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2000"/>
          </a:bodyPr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23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24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044960" y="752400"/>
            <a:ext cx="2355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(over Lesson 3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7162560" y="4495680"/>
            <a:ext cx="14475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TPChart"/>
          <p:cNvGraphicFramePr/>
          <p:nvPr/>
        </p:nvGraphicFramePr>
        <p:xfrm>
          <a:off x="5715000" y="2438280"/>
          <a:ext cx="3130560" cy="35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438280"/>
                    <a:ext cx="313056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Minute Check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604800" y="1295280"/>
            <a:ext cx="2541600" cy="2476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950760" y="4686480"/>
            <a:ext cx="405000" cy="40464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e01b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PQuestion"/>
          <p:cNvSpPr/>
          <p:nvPr/>
        </p:nvSpPr>
        <p:spPr>
          <a:xfrm>
            <a:off x="533520" y="1779480"/>
            <a:ext cx="8229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The average retail price of gasoline in Texas during the week of March 13, 2006 was $2.283 per gallon. Round this to the nearest 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420840" y="17906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79" name="TPAnswers"/>
          <p:cNvSpPr/>
          <p:nvPr/>
        </p:nvSpPr>
        <p:spPr>
          <a:xfrm>
            <a:off x="914400" y="3170160"/>
            <a:ext cx="76960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2000"/>
          </a:bodyPr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.3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.29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.28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.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044960" y="752400"/>
            <a:ext cx="2355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(over Lesson 3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dead_forward" descr=""/>
          <p:cNvPicPr/>
          <p:nvPr/>
        </p:nvPicPr>
        <p:blipFill>
          <a:blip r:embed="rId5"/>
          <a:stretch/>
        </p:blipFill>
        <p:spPr>
          <a:xfrm>
            <a:off x="8180280" y="6465960"/>
            <a:ext cx="46224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Custom Sh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greenback" descr=""/>
          <p:cNvPicPr/>
          <p:nvPr/>
        </p:nvPicPr>
        <p:blipFill>
          <a:blip r:embed="rId1"/>
          <a:stretch/>
        </p:blipFill>
        <p:spPr>
          <a:xfrm>
            <a:off x="565200" y="733320"/>
            <a:ext cx="8001000" cy="54849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Idea/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56960" y="2072880"/>
            <a:ext cx="755316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sums and differences of dec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57320" y="3828960"/>
            <a:ext cx="7705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57320" y="4303800"/>
            <a:ext cx="7705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-end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Main_idea" descr=""/>
          <p:cNvPicPr/>
          <p:nvPr/>
        </p:nvPicPr>
        <p:blipFill>
          <a:blip r:embed="rId2"/>
          <a:stretch/>
        </p:blipFill>
        <p:spPr>
          <a:xfrm>
            <a:off x="1100160" y="1284120"/>
            <a:ext cx="2709720" cy="671760"/>
          </a:xfrm>
          <a:prstGeom prst="rect">
            <a:avLst/>
          </a:prstGeom>
          <a:ln w="0">
            <a:noFill/>
          </a:ln>
        </p:spPr>
      </p:pic>
      <p:pic>
        <p:nvPicPr>
          <p:cNvPr id="189" name="Vocab" descr=""/>
          <p:cNvPicPr/>
          <p:nvPr/>
        </p:nvPicPr>
        <p:blipFill>
          <a:blip r:embed="rId3"/>
          <a:stretch/>
        </p:blipFill>
        <p:spPr>
          <a:xfrm>
            <a:off x="1100160" y="2867040"/>
            <a:ext cx="2709720" cy="671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49400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POPULATION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The table below shows the population of the American colonies in 1770. Estimate the total population of North Carolina and South Carol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6680" y="704880"/>
            <a:ext cx="663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Use Estimation to Solv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00120" y="2754360"/>
            <a:ext cx="7924680" cy="2351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12920" y="701640"/>
            <a:ext cx="2133360" cy="549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6680" y="704880"/>
            <a:ext cx="663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Use Estimation to Solv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33520" y="4248000"/>
            <a:ext cx="822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There were about 300 thousand people in North Carolina and South Carol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80920" y="2581200"/>
            <a:ext cx="7105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4360" indent="-131436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227160"/>
                <a:tab algn="l" pos="1998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2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197.2 rounds to 2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82880" y="3465360"/>
            <a:ext cx="719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4360" indent="-131436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80920" y="3005280"/>
            <a:ext cx="772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4360" indent="-131436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227160"/>
                <a:tab algn="l" pos="1998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e01b22"/>
                </a:solidFill>
                <a:uFillTx/>
                <a:latin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124.2 rounds to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12920" y="701640"/>
            <a:ext cx="2133360" cy="5493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93640"/>
            <a:ext cx="8229600" cy="7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nd each number to the nearest hundred for easier ad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162560" y="4495680"/>
            <a:ext cx="14475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TPChart"/>
          <p:cNvGraphicFramePr/>
          <p:nvPr/>
        </p:nvGraphicFramePr>
        <p:xfrm>
          <a:off x="7162920" y="4038480"/>
          <a:ext cx="1600200" cy="16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038480"/>
                    <a:ext cx="1600200" cy="16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06480" y="4286160"/>
            <a:ext cx="404640" cy="4050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e01b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PQuestion"/>
          <p:cNvSpPr/>
          <p:nvPr/>
        </p:nvSpPr>
        <p:spPr>
          <a:xfrm>
            <a:off x="533520" y="148428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539d"/>
                </a:solidFill>
                <a:latin typeface="Arial"/>
              </a:rPr>
              <a:t>The table below shows the population of the American colonies in 1770. Estimate the total number of people in Pennsylvania and New Hampshire in 177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43080" y="711360"/>
            <a:ext cx="4038480" cy="626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7359480" y="5802480"/>
            <a:ext cx="1346400" cy="414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1768320" y="2530440"/>
            <a:ext cx="5594400" cy="1660680"/>
          </a:xfrm>
          <a:prstGeom prst="rect">
            <a:avLst/>
          </a:prstGeom>
          <a:ln w="0">
            <a:noFill/>
          </a:ln>
        </p:spPr>
      </p:pic>
      <p:sp>
        <p:nvSpPr>
          <p:cNvPr id="214" name="TPAnswers"/>
          <p:cNvSpPr/>
          <p:nvPr/>
        </p:nvSpPr>
        <p:spPr>
          <a:xfrm>
            <a:off x="876240" y="4267080"/>
            <a:ext cx="46864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 marL="85320" indent="-8532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 thousand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320" indent="-8532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 thousand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320" indent="-8532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 thousand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320" indent="-8532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0 thousand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00120" y="3040200"/>
            <a:ext cx="7924680" cy="23508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445760"/>
            <a:ext cx="8458200" cy="14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POPULATION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 The table below shows the population of the American colonies in 1770. Estimate how many more people lived in Rhode Island than in Georgia in 177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6680" y="704880"/>
            <a:ext cx="663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Use Estimation to Solv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12920" y="701640"/>
            <a:ext cx="2133360" cy="549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6680" y="704880"/>
            <a:ext cx="618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Use Estimation to Solv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33520" y="4584600"/>
            <a:ext cx="822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There were about 40 thousand more people in Rhode Island than in Georg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90640" y="1486080"/>
            <a:ext cx="7105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7000" indent="-119700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22716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2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58.2 rounds to 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87480" y="2370240"/>
            <a:ext cx="719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4360" indent="-131436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90640" y="1909800"/>
            <a:ext cx="7719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7000" indent="-119700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22716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>
                <a:solidFill>
                  <a:srgbClr val="e01b22"/>
                </a:solidFill>
                <a:uFillTx/>
                <a:latin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23.4 rounds to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12920" y="701640"/>
            <a:ext cx="2133360" cy="549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7162560" y="4495680"/>
            <a:ext cx="14475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TPChart"/>
          <p:cNvGraphicFramePr/>
          <p:nvPr/>
        </p:nvGraphicFramePr>
        <p:xfrm>
          <a:off x="7086600" y="4191120"/>
          <a:ext cx="1676520" cy="16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4191120"/>
                    <a:ext cx="167652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1768320" y="2530440"/>
            <a:ext cx="5594400" cy="16606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96760" y="4734000"/>
            <a:ext cx="405000" cy="40464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e01b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PQuestion"/>
          <p:cNvSpPr/>
          <p:nvPr/>
        </p:nvSpPr>
        <p:spPr>
          <a:xfrm>
            <a:off x="533520" y="148428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90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539d"/>
                </a:solidFill>
                <a:latin typeface="Arial"/>
              </a:rPr>
              <a:t>The table below shows the population of the American colonies in 1770. Estimate how many more people were in Massachusetts than in Connecticu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343080" y="711360"/>
            <a:ext cx="4038480" cy="6267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7359480" y="5802480"/>
            <a:ext cx="1346400" cy="414000"/>
          </a:xfrm>
          <a:prstGeom prst="rect">
            <a:avLst/>
          </a:prstGeom>
          <a:ln w="0">
            <a:noFill/>
          </a:ln>
        </p:spPr>
      </p:pic>
      <p:sp>
        <p:nvSpPr>
          <p:cNvPr id="239" name="TPAnswers"/>
          <p:cNvSpPr/>
          <p:nvPr/>
        </p:nvSpPr>
        <p:spPr>
          <a:xfrm>
            <a:off x="885960" y="4267080"/>
            <a:ext cx="51339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8000"/>
          </a:bodyPr>
          <a:p>
            <a:pPr marL="95760" indent="-95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thousand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 thousand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 thousand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539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 thousand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6"/>
          <a:stretch/>
        </p:blipFill>
        <p:spPr>
          <a:xfrm>
            <a:off x="420840" y="149544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4:31:51Z</dcterms:created>
  <dc:creator> </dc:creator>
  <dc:description/>
  <dc:language>en-US</dc:language>
  <cp:lastModifiedBy>Deborah Frederick</cp:lastModifiedBy>
  <dcterms:modified xsi:type="dcterms:W3CDTF">2008-05-09T20:20:29Z</dcterms:modified>
  <cp:revision>37</cp:revision>
  <dc:subject>Grade 6</dc:subject>
  <dc:title>Glencoe Mathematics</dc:title>
</cp:coreProperties>
</file>